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91E878C-F09C-4D98-9840-D2CA46B8CB9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5E9872D-FE11-42E1-860A-D2111E5570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7C8BE30-9F29-4090-936B-2DB93E7AF4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60B1E0E-3F1F-4F42-9189-A5D893FC83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5267B4-7903-42DE-B5C6-1AB93C832F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B5F3F47C-154E-4F94-A247-308762C680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7771ECE-7B4F-4C17-8A0A-3D9B0D2BDB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CE5D507-9372-434D-AEED-0BD27F98A9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3ACD533-0ECB-4A82-BCED-0C1DBD490D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ED4908D-1BF5-4C8A-8EDB-0C9CE90EFA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39BE6F0-883F-42A8-B50D-85AAF73D3E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223A406-4540-4209-BE5B-0687835C37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802B80F-58FA-4BA5-9DC5-0FE1BFAF81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5BD8693-9787-4398-AFAC-711C4FA7C9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23313F2-A9C0-4B15-B6D2-E3F78209DD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F503F5A-15CC-4BB1-9A74-136987601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6360" y="4822920"/>
            <a:ext cx="9216720" cy="355680"/>
          </a:xfrm>
          <a:prstGeom prst="rect">
            <a:avLst/>
          </a:prstGeom>
          <a:ln w="0">
            <a:noFill/>
          </a:ln>
        </p:spPr>
      </p:pic>
      <p:sp>
        <p:nvSpPr>
          <p:cNvPr id="1" name="矩形 4"/>
          <p:cNvSpPr/>
          <p:nvPr/>
        </p:nvSpPr>
        <p:spPr>
          <a:xfrm flipH="1">
            <a:off x="-720" y="123840"/>
            <a:ext cx="3708360" cy="216000"/>
          </a:xfrm>
          <a:prstGeom prst="rect">
            <a:avLst/>
          </a:prstGeom>
          <a:gradFill rotWithShape="0">
            <a:gsLst>
              <a:gs pos="0">
                <a:srgbClr val="63d6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文本框 10"/>
          <p:cNvSpPr/>
          <p:nvPr/>
        </p:nvSpPr>
        <p:spPr>
          <a:xfrm>
            <a:off x="216000" y="85680"/>
            <a:ext cx="27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真理诞生于一百个问号之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13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5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4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117360" y="-1080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xtBox 3" descr=""/>
          <p:cNvPicPr/>
          <p:nvPr/>
        </p:nvPicPr>
        <p:blipFill>
          <a:blip r:embed="rId1"/>
          <a:stretch/>
        </p:blipFill>
        <p:spPr>
          <a:xfrm>
            <a:off x="638280" y="3075120"/>
            <a:ext cx="8136000" cy="131436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539640" y="434880"/>
            <a:ext cx="56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  <a:ea typeface="Impact"/>
              </a:rPr>
              <a:t>什么是真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  <a:ea typeface="Impact"/>
              </a:rPr>
              <a:t>你认为真理是怎样诞生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组合 5"/>
          <p:cNvGrpSpPr/>
          <p:nvPr/>
        </p:nvGrpSpPr>
        <p:grpSpPr>
          <a:xfrm>
            <a:off x="1403280" y="1851120"/>
            <a:ext cx="6337440" cy="792000"/>
            <a:chOff x="1403280" y="1851120"/>
            <a:chExt cx="6337440" cy="792000"/>
          </a:xfrm>
        </p:grpSpPr>
        <p:sp>
          <p:nvSpPr>
            <p:cNvPr id="55" name="横卷形 4"/>
            <p:cNvSpPr/>
            <p:nvPr/>
          </p:nvSpPr>
          <p:spPr>
            <a:xfrm>
              <a:off x="1403280" y="1851120"/>
              <a:ext cx="6265440" cy="792000"/>
            </a:xfrm>
            <a:prstGeom prst="horizontalScroll">
              <a:avLst>
                <a:gd name="adj" fmla="val 12500"/>
              </a:avLst>
            </a:prstGeom>
            <a:solidFill>
              <a:srgbClr val="fff2dd"/>
            </a:solidFill>
            <a:ln w="25560">
              <a:solidFill>
                <a:srgbClr val="02b3c5"/>
              </a:solidFill>
              <a:round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矩形 2"/>
            <p:cNvSpPr/>
            <p:nvPr/>
          </p:nvSpPr>
          <p:spPr>
            <a:xfrm>
              <a:off x="1619280" y="1934640"/>
              <a:ext cx="612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真理诞生于一百个问号之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31800" y="512640"/>
            <a:ext cx="7972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700200"/>
          <a:ext cx="8713440" cy="3743280"/>
        </p:xfrm>
        <a:graphic>
          <a:graphicData uri="http://schemas.openxmlformats.org/drawingml/2006/table">
            <a:tbl>
              <a:tblPr/>
              <a:tblGrid>
                <a:gridCol w="1425600"/>
                <a:gridCol w="1267200"/>
                <a:gridCol w="2535480"/>
                <a:gridCol w="1743480"/>
                <a:gridCol w="1741680"/>
              </a:tblGrid>
              <a:tr h="89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问号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探究的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真理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</a:tr>
              <a:tr h="2845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</a:tbl>
          </a:graphicData>
        </a:graphic>
      </p:graphicFrame>
      <p:sp>
        <p:nvSpPr>
          <p:cNvPr id="80" name="矩形 2"/>
          <p:cNvSpPr/>
          <p:nvPr/>
        </p:nvSpPr>
        <p:spPr>
          <a:xfrm>
            <a:off x="1763640" y="2066760"/>
            <a:ext cx="10796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溅上盐酸的紫罗兰花瓣变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059280" y="1717560"/>
            <a:ext cx="2376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紫罗兰中的什么物质遇到盐酸会变红？别的植物中会不会有同样的物质？别的酸对这种物质会有什么样的反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5867280" y="2066760"/>
            <a:ext cx="108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进行了许多实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7380360" y="1736640"/>
            <a:ext cx="1512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大部分花草受酸或碱的作用都会改变颜色，其中石蕊最明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50920" y="2859120"/>
            <a:ext cx="1441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紫罗兰的变色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4767" t="0" r="0" b="0"/>
          <a:stretch/>
        </p:blipFill>
        <p:spPr>
          <a:xfrm>
            <a:off x="0" y="915840"/>
            <a:ext cx="2168640" cy="37926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"/>
          <p:cNvSpPr/>
          <p:nvPr/>
        </p:nvSpPr>
        <p:spPr>
          <a:xfrm>
            <a:off x="1979640" y="1058760"/>
            <a:ext cx="66168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Impact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写了波义耳发现溅上盐酸的紫罗兰花瓣变红了，再写他产生了一连串的疑问，之后写他进行了许多实验，最后写他发现了大部分花草受到酸或碱的影响都会改变颜色，并利用这一特点制成了石蕊试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50920" y="700200"/>
          <a:ext cx="8713440" cy="3743280"/>
        </p:xfrm>
        <a:graphic>
          <a:graphicData uri="http://schemas.openxmlformats.org/drawingml/2006/table">
            <a:tbl>
              <a:tblPr/>
              <a:tblGrid>
                <a:gridCol w="1224000"/>
                <a:gridCol w="2665800"/>
                <a:gridCol w="1338480"/>
                <a:gridCol w="1743480"/>
                <a:gridCol w="1741680"/>
              </a:tblGrid>
              <a:tr h="89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问号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探究的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真理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</a:tr>
              <a:tr h="2845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</a:tbl>
          </a:graphicData>
        </a:graphic>
      </p:graphicFrame>
      <p:sp>
        <p:nvSpPr>
          <p:cNvPr id="88" name="矩形 2"/>
          <p:cNvSpPr/>
          <p:nvPr/>
        </p:nvSpPr>
        <p:spPr>
          <a:xfrm>
            <a:off x="1547640" y="1717560"/>
            <a:ext cx="2592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地图上南美洲东海岸的凸出部分与非洲西海岸的凹陷部分互相吻合；从海岸线的情形看，所有大陆都能较好地吻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140360" y="2556000"/>
            <a:ext cx="1393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这是一种巧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5508720" y="1727280"/>
            <a:ext cx="1701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阅读了大量的相关文献，同时搜集古生物学方面的证据；注意到蚯蚓的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7380360" y="2556000"/>
            <a:ext cx="1512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大陆漂移学说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79280" y="2859120"/>
            <a:ext cx="1440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蚯蚓的分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700200"/>
          <a:ext cx="8713440" cy="3743280"/>
        </p:xfrm>
        <a:graphic>
          <a:graphicData uri="http://schemas.openxmlformats.org/drawingml/2006/table">
            <a:tbl>
              <a:tblPr/>
              <a:tblGrid>
                <a:gridCol w="1224000"/>
                <a:gridCol w="1584720"/>
                <a:gridCol w="2088000"/>
                <a:gridCol w="1729080"/>
                <a:gridCol w="2087640"/>
              </a:tblGrid>
              <a:tr h="897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问号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探究的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真理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</a:tr>
              <a:tr h="2845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</a:tbl>
          </a:graphicData>
        </a:graphic>
      </p:graphicFrame>
      <p:sp>
        <p:nvSpPr>
          <p:cNvPr id="94" name="矩形 2"/>
          <p:cNvSpPr/>
          <p:nvPr/>
        </p:nvSpPr>
        <p:spPr>
          <a:xfrm>
            <a:off x="1555920" y="2185920"/>
            <a:ext cx="14396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儿子在睡觉的时候，眼珠忽然转动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3132000" y="2036880"/>
            <a:ext cx="20433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为什么睡觉时眼珠会转动？这会不会与做梦有关？会是什么关系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219640" y="2556000"/>
            <a:ext cx="1701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进行了反复的观察实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6921360" y="1666800"/>
            <a:ext cx="20433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睡眠中眼珠快速转动时，人的脑电波也会发生较大的变化，这是人最容易做梦的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250920" y="2859120"/>
            <a:ext cx="1305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Calibri"/>
              </a:rPr>
              <a:t>（睡觉时眼珠的转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6"/>
          <p:cNvSpPr/>
          <p:nvPr/>
        </p:nvSpPr>
        <p:spPr>
          <a:xfrm>
            <a:off x="179280" y="555480"/>
            <a:ext cx="280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Impact"/>
                <a:ea typeface="Impact"/>
              </a:rPr>
              <a:t>得出的结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文本框 3" descr=""/>
          <p:cNvPicPr/>
          <p:nvPr/>
        </p:nvPicPr>
        <p:blipFill>
          <a:blip r:embed="rId1"/>
          <a:stretch/>
        </p:blipFill>
        <p:spPr>
          <a:xfrm>
            <a:off x="847800" y="1724040"/>
            <a:ext cx="7522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338040" y="1324080"/>
            <a:ext cx="84121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通过品读三个事例，体会课文是怎样用事例来说明观点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体会科学家不断探索的科学精神，理解“真理诞生于一百个问号之后”的含义，并说出它给人的启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能仿照课文的写法，用具体事例说明一个观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4"/>
          <p:cNvSpPr/>
          <p:nvPr/>
        </p:nvSpPr>
        <p:spPr>
          <a:xfrm>
            <a:off x="536400" y="555480"/>
            <a:ext cx="2148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6"/>
          <p:cNvSpPr/>
          <p:nvPr/>
        </p:nvSpPr>
        <p:spPr>
          <a:xfrm>
            <a:off x="395280" y="1492200"/>
            <a:ext cx="818676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Impact"/>
                <a:ea typeface="Impact"/>
              </a:rPr>
              <a:t>默读第</a:t>
            </a:r>
            <a:r>
              <a:rPr b="0" lang="en-US" sz="2700" spc="-1" strike="noStrike">
                <a:solidFill>
                  <a:srgbClr val="000000"/>
                </a:solidFill>
                <a:latin typeface="Impact"/>
                <a:ea typeface="Impac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Impact"/>
                <a:ea typeface="Impact"/>
              </a:rPr>
              <a:t>自然段，为第</a:t>
            </a:r>
            <a:r>
              <a:rPr b="0" lang="en-US" sz="2700" spc="-1" strike="noStrike">
                <a:solidFill>
                  <a:srgbClr val="000000"/>
                </a:solidFill>
                <a:latin typeface="Impact"/>
                <a:ea typeface="Impac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Impact"/>
                <a:ea typeface="Impact"/>
              </a:rPr>
              <a:t>段划分层次。想一想这个事例中的“？”是什么？由此发现的“真理”是什么？这个事例是按照怎样的顺序来介绍的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619280" y="5554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事例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：紫罗兰的变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1547640" y="1050840"/>
            <a:ext cx="6409080" cy="520560"/>
          </a:xfrm>
          <a:prstGeom prst="rect">
            <a:avLst/>
          </a:prstGeom>
          <a:solidFill>
            <a:srgbClr val="fc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从细微的、偶然的现象中发现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下箭头 5"/>
          <p:cNvSpPr/>
          <p:nvPr/>
        </p:nvSpPr>
        <p:spPr>
          <a:xfrm>
            <a:off x="4427640" y="1654200"/>
            <a:ext cx="144360" cy="200160"/>
          </a:xfrm>
          <a:prstGeom prst="downArrow">
            <a:avLst>
              <a:gd name="adj1" fmla="val 50000"/>
              <a:gd name="adj2" fmla="val 49947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4049640" y="1925640"/>
            <a:ext cx="900000" cy="520560"/>
          </a:xfrm>
          <a:prstGeom prst="rect">
            <a:avLst/>
          </a:prstGeom>
          <a:solidFill>
            <a:srgbClr val="d8e2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下箭头 7"/>
          <p:cNvSpPr/>
          <p:nvPr/>
        </p:nvSpPr>
        <p:spPr>
          <a:xfrm>
            <a:off x="4437000" y="2546280"/>
            <a:ext cx="142920" cy="200160"/>
          </a:xfrm>
          <a:prstGeom prst="downArrow">
            <a:avLst>
              <a:gd name="adj1" fmla="val 50000"/>
              <a:gd name="adj2" fmla="val 50450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067280" y="2816280"/>
            <a:ext cx="900000" cy="520560"/>
          </a:xfrm>
          <a:prstGeom prst="rect">
            <a:avLst/>
          </a:prstGeom>
          <a:solidFill>
            <a:srgbClr val="ffe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实验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下箭头 9"/>
          <p:cNvSpPr/>
          <p:nvPr/>
        </p:nvSpPr>
        <p:spPr>
          <a:xfrm>
            <a:off x="4444920" y="3457440"/>
            <a:ext cx="144720" cy="200160"/>
          </a:xfrm>
          <a:prstGeom prst="downArrow">
            <a:avLst>
              <a:gd name="adj1" fmla="val 50000"/>
              <a:gd name="adj2" fmla="val 49823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10"/>
          <p:cNvSpPr/>
          <p:nvPr/>
        </p:nvSpPr>
        <p:spPr>
          <a:xfrm>
            <a:off x="4067280" y="3776760"/>
            <a:ext cx="900000" cy="520560"/>
          </a:xfrm>
          <a:prstGeom prst="rect">
            <a:avLst/>
          </a:prstGeom>
          <a:solidFill>
            <a:srgbClr val="e3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取得成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6"/>
          <p:cNvSpPr/>
          <p:nvPr/>
        </p:nvSpPr>
        <p:spPr>
          <a:xfrm>
            <a:off x="395280" y="477720"/>
            <a:ext cx="8137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为什么波义耳能有这个科学发现呢？请你抓住关键词句读一读，把感悟批注在书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6"/>
          <p:cNvSpPr/>
          <p:nvPr/>
        </p:nvSpPr>
        <p:spPr>
          <a:xfrm>
            <a:off x="1332000" y="3513240"/>
            <a:ext cx="6896160" cy="495360"/>
          </a:xfrm>
          <a:prstGeom prst="rect">
            <a:avLst/>
          </a:prstGeom>
          <a:solidFill>
            <a:srgbClr val="ffd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从发现现象到最后成功发明石蕊试纸是一蹴而就的吗？这中间波义耳是怎么做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1332000" y="1851120"/>
            <a:ext cx="6896160" cy="520560"/>
          </a:xfrm>
          <a:prstGeom prst="rect">
            <a:avLst/>
          </a:prstGeom>
          <a:solidFill>
            <a:srgbClr val="ffe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实验室里那么多人，为什么只有波义耳发现了这个现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332000" y="2901960"/>
            <a:ext cx="6896160" cy="520560"/>
          </a:xfrm>
          <a:prstGeom prst="rect">
            <a:avLst/>
          </a:prstGeom>
          <a:solidFill>
            <a:srgbClr val="ffd9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波义耳的这一连串问题之间有关联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-11160" y="-22320"/>
            <a:ext cx="9144000" cy="468972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 flipH="1">
            <a:off x="-720" y="15876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470160" y="138240"/>
            <a:ext cx="109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mpact"/>
                <a:ea typeface="Impact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Impact"/>
                <a:ea typeface="Impact"/>
              </a:rPr>
              <a:t>语文  六年级  下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extBox 48" descr=""/>
          <p:cNvPicPr/>
          <p:nvPr/>
        </p:nvPicPr>
        <p:blipFill>
          <a:blip r:embed="rId2"/>
          <a:stretch/>
        </p:blipFill>
        <p:spPr>
          <a:xfrm>
            <a:off x="781200" y="1420920"/>
            <a:ext cx="75801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755640" y="9730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Calibri"/>
              </a:rPr>
              <a:t>波义耳立即敏感地意识到，紫罗兰中有一种物质遇到盐酸会变红。那么，这种物质到底是什么？别的植物中会不会有同样的物质？别的酸对这种物质会有什么样的反应？这一奇怪的现象以及一连串的问题，促使波义耳进行了许多实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6"/>
          <p:cNvSpPr/>
          <p:nvPr/>
        </p:nvSpPr>
        <p:spPr>
          <a:xfrm>
            <a:off x="2843280" y="1492200"/>
            <a:ext cx="318132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7"/>
          <p:cNvSpPr/>
          <p:nvPr/>
        </p:nvSpPr>
        <p:spPr>
          <a:xfrm flipV="1">
            <a:off x="835200" y="2504880"/>
            <a:ext cx="7251480" cy="507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8"/>
          <p:cNvSpPr/>
          <p:nvPr/>
        </p:nvSpPr>
        <p:spPr>
          <a:xfrm flipV="1">
            <a:off x="900000" y="2932200"/>
            <a:ext cx="7186680" cy="71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直接连接符 9"/>
          <p:cNvSpPr/>
          <p:nvPr/>
        </p:nvSpPr>
        <p:spPr>
          <a:xfrm>
            <a:off x="835200" y="3494160"/>
            <a:ext cx="13474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直接连接符 16"/>
          <p:cNvSpPr/>
          <p:nvPr/>
        </p:nvSpPr>
        <p:spPr>
          <a:xfrm>
            <a:off x="4991040" y="3925800"/>
            <a:ext cx="15321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组合 20" descr=""/>
          <p:cNvPicPr/>
          <p:nvPr/>
        </p:nvPicPr>
        <p:blipFill>
          <a:blip r:embed="rId1"/>
          <a:stretch/>
        </p:blipFill>
        <p:spPr>
          <a:xfrm>
            <a:off x="3774960" y="38160"/>
            <a:ext cx="2092320" cy="1054080"/>
          </a:xfrm>
          <a:prstGeom prst="rect">
            <a:avLst/>
          </a:prstGeom>
          <a:ln w="0">
            <a:noFill/>
          </a:ln>
        </p:spPr>
      </p:pic>
      <p:pic>
        <p:nvPicPr>
          <p:cNvPr id="123" name="组合 23" descr=""/>
          <p:cNvPicPr/>
          <p:nvPr/>
        </p:nvPicPr>
        <p:blipFill>
          <a:blip r:embed="rId2"/>
          <a:stretch/>
        </p:blipFill>
        <p:spPr>
          <a:xfrm>
            <a:off x="204840" y="1809720"/>
            <a:ext cx="2090520" cy="1054080"/>
          </a:xfrm>
          <a:prstGeom prst="rect">
            <a:avLst/>
          </a:prstGeom>
          <a:ln w="0">
            <a:noFill/>
          </a:ln>
        </p:spPr>
      </p:pic>
      <p:pic>
        <p:nvPicPr>
          <p:cNvPr id="124" name="组合 26" descr=""/>
          <p:cNvPicPr/>
          <p:nvPr/>
        </p:nvPicPr>
        <p:blipFill>
          <a:blip r:embed="rId3"/>
          <a:stretch/>
        </p:blipFill>
        <p:spPr>
          <a:xfrm>
            <a:off x="6654960" y="3711600"/>
            <a:ext cx="2092320" cy="1052640"/>
          </a:xfrm>
          <a:prstGeom prst="rect">
            <a:avLst/>
          </a:prstGeom>
          <a:ln w="0">
            <a:noFill/>
          </a:ln>
        </p:spPr>
      </p:pic>
      <p:sp>
        <p:nvSpPr>
          <p:cNvPr id="125" name="直接连接符 28"/>
          <p:cNvSpPr/>
          <p:nvPr/>
        </p:nvSpPr>
        <p:spPr>
          <a:xfrm>
            <a:off x="7327800" y="2009880"/>
            <a:ext cx="8445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968480" y="480960"/>
            <a:ext cx="5267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波义耳发明石蕊试纸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155520" y="1177920"/>
            <a:ext cx="88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波义耳善于从细微的、司空见惯的现象中发现问题，所以他关注到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波义耳不仅关注到这个现象，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，并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Calibri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波义耳经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，最终发明了石蕊试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3416400" y="194004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溅上盐酸的紫罗兰花瓣变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1071720" y="315288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产生了一连串的疑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6127920" y="2455920"/>
            <a:ext cx="27129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发现了相关问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3078000" y="3724200"/>
            <a:ext cx="2129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反复实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6"/>
          <p:cNvSpPr/>
          <p:nvPr/>
        </p:nvSpPr>
        <p:spPr>
          <a:xfrm>
            <a:off x="179280" y="1563840"/>
            <a:ext cx="878544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默读第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自然段，说一说：这两个事例分别是按什么顺序写的？这两个事例中的主人公是怎样发现“真理”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1"/>
          <p:cNvSpPr/>
          <p:nvPr/>
        </p:nvSpPr>
        <p:spPr>
          <a:xfrm>
            <a:off x="179280" y="576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事例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：地图的巧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4067280" y="5731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事例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：睡觉时眼珠的转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6"/>
          <p:cNvSpPr/>
          <p:nvPr/>
        </p:nvSpPr>
        <p:spPr>
          <a:xfrm>
            <a:off x="1547640" y="700200"/>
            <a:ext cx="6591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Impact"/>
              </a:rPr>
              <a:t>这三个事例的叙述顺序有没有共同之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547640" y="1492200"/>
            <a:ext cx="6409080" cy="520560"/>
          </a:xfrm>
          <a:prstGeom prst="rect">
            <a:avLst/>
          </a:prstGeom>
          <a:solidFill>
            <a:srgbClr val="fc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从细微的、司空见惯的现象中发现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下箭头 5"/>
          <p:cNvSpPr/>
          <p:nvPr/>
        </p:nvSpPr>
        <p:spPr>
          <a:xfrm>
            <a:off x="4427640" y="2014560"/>
            <a:ext cx="144360" cy="200160"/>
          </a:xfrm>
          <a:prstGeom prst="downArrow">
            <a:avLst>
              <a:gd name="adj1" fmla="val 50000"/>
              <a:gd name="adj2" fmla="val 49947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4049640" y="2214720"/>
            <a:ext cx="900000" cy="520560"/>
          </a:xfrm>
          <a:prstGeom prst="rect">
            <a:avLst/>
          </a:prstGeom>
          <a:solidFill>
            <a:srgbClr val="d8e2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不断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下箭头 7"/>
          <p:cNvSpPr/>
          <p:nvPr/>
        </p:nvSpPr>
        <p:spPr>
          <a:xfrm>
            <a:off x="4437000" y="2763720"/>
            <a:ext cx="142920" cy="200160"/>
          </a:xfrm>
          <a:prstGeom prst="downArrow">
            <a:avLst>
              <a:gd name="adj1" fmla="val 50000"/>
              <a:gd name="adj2" fmla="val 50450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3869640" y="2981160"/>
            <a:ext cx="1259640" cy="520560"/>
          </a:xfrm>
          <a:prstGeom prst="rect">
            <a:avLst/>
          </a:prstGeom>
          <a:solidFill>
            <a:srgbClr val="ffe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不断解决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下箭头 9"/>
          <p:cNvSpPr/>
          <p:nvPr/>
        </p:nvSpPr>
        <p:spPr>
          <a:xfrm>
            <a:off x="4444920" y="3530520"/>
            <a:ext cx="144720" cy="200160"/>
          </a:xfrm>
          <a:prstGeom prst="downArrow">
            <a:avLst>
              <a:gd name="adj1" fmla="val 50000"/>
              <a:gd name="adj2" fmla="val 49823"/>
            </a:avLst>
          </a:prstGeom>
          <a:solidFill>
            <a:srgbClr val="ffffff"/>
          </a:solidFill>
          <a:ln w="25560">
            <a:solidFill>
              <a:srgbClr val="02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3688920" y="3770280"/>
            <a:ext cx="1799280" cy="520560"/>
          </a:xfrm>
          <a:prstGeom prst="rect">
            <a:avLst/>
          </a:prstGeom>
          <a:solidFill>
            <a:srgbClr val="e3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追根求源，找到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103400" y="1380960"/>
            <a:ext cx="684360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6"/>
          <p:cNvSpPr/>
          <p:nvPr/>
        </p:nvSpPr>
        <p:spPr>
          <a:xfrm>
            <a:off x="1403280" y="184932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Calibri"/>
              </a:rPr>
              <a:t>不足为奇  见怪不惊  不乏先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Calibri"/>
              </a:rPr>
              <a:t>层出不穷  熟视无睹  屡见不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1"/>
          <p:cNvSpPr/>
          <p:nvPr/>
        </p:nvSpPr>
        <p:spPr>
          <a:xfrm>
            <a:off x="1116000" y="674640"/>
            <a:ext cx="652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积累（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“司空见惯”意思相近的词语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4" descr=""/>
          <p:cNvPicPr/>
          <p:nvPr/>
        </p:nvPicPr>
        <p:blipFill>
          <a:blip r:embed="rId2"/>
          <a:stretch/>
        </p:blipFill>
        <p:spPr>
          <a:xfrm>
            <a:off x="611280" y="627120"/>
            <a:ext cx="447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6"/>
          <p:cNvSpPr/>
          <p:nvPr/>
        </p:nvSpPr>
        <p:spPr>
          <a:xfrm>
            <a:off x="395280" y="843120"/>
            <a:ext cx="8305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这三个事例中的主人公都有哪些共同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4788000" y="1851120"/>
            <a:ext cx="2112840" cy="993600"/>
            <a:chOff x="4788000" y="1851120"/>
            <a:chExt cx="2112840" cy="993600"/>
          </a:xfrm>
        </p:grpSpPr>
        <p:sp>
          <p:nvSpPr>
            <p:cNvPr id="150" name="云形 4"/>
            <p:cNvSpPr/>
            <p:nvPr/>
          </p:nvSpPr>
          <p:spPr>
            <a:xfrm>
              <a:off x="4788000" y="1851120"/>
              <a:ext cx="2112840" cy="99360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Box 6"/>
            <p:cNvSpPr/>
            <p:nvPr/>
          </p:nvSpPr>
          <p:spPr>
            <a:xfrm>
              <a:off x="5374080" y="205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Impact"/>
                  <a:ea typeface="Impact"/>
                </a:rPr>
                <a:t>善于发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组合 7"/>
          <p:cNvGrpSpPr/>
          <p:nvPr/>
        </p:nvGrpSpPr>
        <p:grpSpPr>
          <a:xfrm>
            <a:off x="1332000" y="1833480"/>
            <a:ext cx="1971720" cy="1011240"/>
            <a:chOff x="1332000" y="1833480"/>
            <a:chExt cx="1971720" cy="1011240"/>
          </a:xfrm>
        </p:grpSpPr>
        <p:sp>
          <p:nvSpPr>
            <p:cNvPr id="153" name="云形 8"/>
            <p:cNvSpPr/>
            <p:nvPr/>
          </p:nvSpPr>
          <p:spPr>
            <a:xfrm>
              <a:off x="1332000" y="1833480"/>
              <a:ext cx="1971720" cy="10112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Box 9"/>
            <p:cNvSpPr/>
            <p:nvPr/>
          </p:nvSpPr>
          <p:spPr>
            <a:xfrm>
              <a:off x="1762200" y="2038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Impact"/>
                  <a:ea typeface="Impact"/>
                </a:rPr>
                <a:t>见微知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组合 11"/>
          <p:cNvGrpSpPr/>
          <p:nvPr/>
        </p:nvGrpSpPr>
        <p:grpSpPr>
          <a:xfrm>
            <a:off x="2589120" y="3049560"/>
            <a:ext cx="1971720" cy="1011240"/>
            <a:chOff x="2589120" y="3049560"/>
            <a:chExt cx="1971720" cy="1011240"/>
          </a:xfrm>
        </p:grpSpPr>
        <p:sp>
          <p:nvSpPr>
            <p:cNvPr id="156" name="云形 12"/>
            <p:cNvSpPr/>
            <p:nvPr/>
          </p:nvSpPr>
          <p:spPr>
            <a:xfrm>
              <a:off x="2589120" y="3049560"/>
              <a:ext cx="1971720" cy="10112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Box 9"/>
            <p:cNvSpPr/>
            <p:nvPr/>
          </p:nvSpPr>
          <p:spPr>
            <a:xfrm>
              <a:off x="3124440" y="3254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Impact"/>
                  <a:ea typeface="Impact"/>
                </a:rPr>
                <a:t>锲而不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组合 14"/>
          <p:cNvGrpSpPr/>
          <p:nvPr/>
        </p:nvGrpSpPr>
        <p:grpSpPr>
          <a:xfrm>
            <a:off x="6227640" y="3046320"/>
            <a:ext cx="2112840" cy="992160"/>
            <a:chOff x="6227640" y="3046320"/>
            <a:chExt cx="2112840" cy="992160"/>
          </a:xfrm>
        </p:grpSpPr>
        <p:sp>
          <p:nvSpPr>
            <p:cNvPr id="159" name="云形 15"/>
            <p:cNvSpPr/>
            <p:nvPr/>
          </p:nvSpPr>
          <p:spPr>
            <a:xfrm>
              <a:off x="6227640" y="3046320"/>
              <a:ext cx="2112840" cy="99216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Box 6"/>
            <p:cNvSpPr/>
            <p:nvPr/>
          </p:nvSpPr>
          <p:spPr>
            <a:xfrm>
              <a:off x="6914880" y="3247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Impact"/>
                  <a:ea typeface="Impact"/>
                </a:rPr>
                <a:t>不断探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6"/>
          <p:cNvSpPr/>
          <p:nvPr/>
        </p:nvSpPr>
        <p:spPr>
          <a:xfrm>
            <a:off x="468360" y="627120"/>
            <a:ext cx="80154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思考探究三：有人认为课文在第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段已经完成了对观点的证明，并且回应了开头，全文已形成整体，因此第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段有画蛇添足之嫌。你同意这种说法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1692360" y="3309840"/>
            <a:ext cx="6153120" cy="812880"/>
          </a:xfrm>
          <a:prstGeom prst="roundRect">
            <a:avLst>
              <a:gd name="adj" fmla="val 16667"/>
            </a:avLst>
          </a:prstGeom>
          <a:solidFill>
            <a:srgbClr val="92d050">
              <a:alpha val="30000"/>
            </a:srgbClr>
          </a:solidFill>
          <a:ln w="64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全文的总结，并且进一步告诉我们应当怎样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755640" y="662040"/>
            <a:ext cx="734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真理诞生于一百个问号之后”的含义：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971640" y="1708200"/>
            <a:ext cx="7200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只要善于观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不断发问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不断解决疑问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锲而不舍地追根求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就有可能在现实生活中发现真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940360" y="4371840"/>
            <a:ext cx="2232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课后第一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6"/>
          <p:cNvSpPr/>
          <p:nvPr/>
        </p:nvSpPr>
        <p:spPr>
          <a:xfrm>
            <a:off x="-108000" y="627120"/>
            <a:ext cx="66801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Impact"/>
              </a:rPr>
              <a:t>学完这篇课文，你受到了怎样的启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611280" y="149220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科学并不神秘，也不遥远，关键在于“知微见著”，不断探索，善于独立思考，具有锲而不舍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550800" y="555480"/>
            <a:ext cx="7748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Impact"/>
                <a:ea typeface="Impact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  <a:ea typeface="Impact"/>
              </a:rPr>
              <a:t>小练笔：仿照课文的写法，选择下面任一观点用具体的事例来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TextBox 19" descr=""/>
          <p:cNvPicPr/>
          <p:nvPr/>
        </p:nvPicPr>
        <p:blipFill>
          <a:blip r:embed="rId1"/>
          <a:stretch/>
        </p:blipFill>
        <p:spPr>
          <a:xfrm>
            <a:off x="3009960" y="2154240"/>
            <a:ext cx="30146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4"/>
          <p:cNvSpPr/>
          <p:nvPr/>
        </p:nvSpPr>
        <p:spPr>
          <a:xfrm>
            <a:off x="654120" y="422280"/>
            <a:ext cx="40338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41"/>
          <p:cNvSpPr/>
          <p:nvPr/>
        </p:nvSpPr>
        <p:spPr>
          <a:xfrm>
            <a:off x="209520" y="2014560"/>
            <a:ext cx="8755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  <a:ea typeface="Calibri"/>
              </a:rPr>
              <a:t>花圃  不慎  盐酸  敏感  石蕊  领域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extBox 12" descr=""/>
          <p:cNvPicPr/>
          <p:nvPr/>
        </p:nvPicPr>
        <p:blipFill>
          <a:blip r:embed="rId1"/>
          <a:stretch/>
        </p:blipFill>
        <p:spPr>
          <a:xfrm>
            <a:off x="682560" y="1203480"/>
            <a:ext cx="795672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1"/>
          <p:cNvSpPr/>
          <p:nvPr/>
        </p:nvSpPr>
        <p:spPr>
          <a:xfrm>
            <a:off x="819000" y="2932200"/>
            <a:ext cx="79344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  <a:ea typeface="Calibri"/>
              </a:rPr>
              <a:t>司空见惯  追根求源  无独有偶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1"/>
          <p:cNvSpPr/>
          <p:nvPr/>
        </p:nvSpPr>
        <p:spPr>
          <a:xfrm>
            <a:off x="885960" y="3821040"/>
            <a:ext cx="7934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  <a:ea typeface="Calibri"/>
              </a:rPr>
              <a:t>见微知著  锲而不舍  不可思议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627120" y="141912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清代小说家蒲松龄写下励志自勉联：“有志者事竟成，破釜沉舟百二秦关终属楚；苦心人天不负，卧薪尝胆三千越甲可吞吴。”开始时是刻在铜尺之上，后悬置于书屋聊斋书房。终于，他凭着自己的雄心壮志，不懈努力，以一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聊斋志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名垂青史，成就一番大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Box 19" descr=""/>
          <p:cNvPicPr/>
          <p:nvPr/>
        </p:nvPicPr>
        <p:blipFill>
          <a:blip r:embed="rId1"/>
          <a:stretch/>
        </p:blipFill>
        <p:spPr>
          <a:xfrm>
            <a:off x="2305080" y="506520"/>
            <a:ext cx="446400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552600" y="484200"/>
            <a:ext cx="7993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春秋时期，吴越相争，吴胜越败，越王勾践沦为阶下囚。但他不甘屈服，立志复仇，最后终于打败了吴国，留下了“卧薪尝胆”的千古美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著名数学家华罗庚小时候面对“没有数学头脑”的斥责而确立志向，虽然连初中毕业文凭都没有，但最终成为数学领域的巨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Calibri"/>
              </a:rPr>
              <a:t>古今中外诸多的政治家、科学家，都以其自身的行动证明了“有志者事竟成”这句话的正确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6"/>
          <p:cNvSpPr/>
          <p:nvPr/>
        </p:nvSpPr>
        <p:spPr>
          <a:xfrm>
            <a:off x="1755720" y="1123920"/>
            <a:ext cx="5518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提出观点：真理诞生于一百个问号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8"/>
          <p:cNvSpPr/>
          <p:nvPr/>
        </p:nvSpPr>
        <p:spPr>
          <a:xfrm>
            <a:off x="3297240" y="1806480"/>
            <a:ext cx="2570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发现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9"/>
          <p:cNvSpPr/>
          <p:nvPr/>
        </p:nvSpPr>
        <p:spPr>
          <a:xfrm>
            <a:off x="1828800" y="2405160"/>
            <a:ext cx="14461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运用事例证明观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左大括号 1"/>
          <p:cNvSpPr/>
          <p:nvPr/>
        </p:nvSpPr>
        <p:spPr>
          <a:xfrm>
            <a:off x="1550880" y="1305000"/>
            <a:ext cx="268560" cy="3054240"/>
          </a:xfrm>
          <a:custGeom>
            <a:avLst/>
            <a:gdLst>
              <a:gd name="textAreaLeft" fmla="*/ 171720 w 268560"/>
              <a:gd name="textAreaRight" fmla="*/ 268920 w 268560"/>
              <a:gd name="textAreaTop" fmla="*/ 6840 h 3054240"/>
              <a:gd name="textAreaBottom" fmla="*/ 3047400 h 305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"/>
                  <a:pt x="10800" y="157"/>
                </a:cubicBezTo>
                <a:lnTo>
                  <a:pt x="10800" y="10643"/>
                </a:lnTo>
                <a:cubicBezTo>
                  <a:pt x="10800" y="10722"/>
                  <a:pt x="5400" y="10800"/>
                  <a:pt x="0" y="10800"/>
                </a:cubicBezTo>
                <a:cubicBezTo>
                  <a:pt x="5400" y="10800"/>
                  <a:pt x="10800" y="10879"/>
                  <a:pt x="10800" y="10957"/>
                </a:cubicBezTo>
                <a:lnTo>
                  <a:pt x="10800" y="21443"/>
                </a:lnTo>
                <a:cubicBezTo>
                  <a:pt x="10800" y="2152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16"/>
          <p:cNvSpPr/>
          <p:nvPr/>
        </p:nvSpPr>
        <p:spPr>
          <a:xfrm>
            <a:off x="1828800" y="3997440"/>
            <a:ext cx="3108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总结观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6"/>
          <p:cNvSpPr/>
          <p:nvPr/>
        </p:nvSpPr>
        <p:spPr>
          <a:xfrm>
            <a:off x="757080" y="1766880"/>
            <a:ext cx="803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真理诞生于一百个问号之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左大括号 18"/>
          <p:cNvSpPr/>
          <p:nvPr/>
        </p:nvSpPr>
        <p:spPr>
          <a:xfrm>
            <a:off x="3168720" y="1881360"/>
            <a:ext cx="214200" cy="194760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947600"/>
              <a:gd name="textAreaBottom" fmla="*/ 1942200 h 194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9"/>
          <p:cNvSpPr/>
          <p:nvPr/>
        </p:nvSpPr>
        <p:spPr>
          <a:xfrm>
            <a:off x="3322800" y="2922480"/>
            <a:ext cx="1596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实验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19"/>
          <p:cNvSpPr/>
          <p:nvPr/>
        </p:nvSpPr>
        <p:spPr>
          <a:xfrm>
            <a:off x="3311640" y="2347920"/>
            <a:ext cx="2357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提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左大括号 17"/>
          <p:cNvSpPr/>
          <p:nvPr/>
        </p:nvSpPr>
        <p:spPr>
          <a:xfrm flipH="1">
            <a:off x="7165800" y="1266840"/>
            <a:ext cx="214560" cy="3176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3176640"/>
              <a:gd name="textAreaBottom" fmla="*/ 3171240 h 31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19"/>
          <p:cNvSpPr/>
          <p:nvPr/>
        </p:nvSpPr>
        <p:spPr>
          <a:xfrm>
            <a:off x="7327800" y="2035080"/>
            <a:ext cx="15084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见微知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善于发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锲而不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不断探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571680"/>
            <a:ext cx="138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14"/>
          <p:cNvSpPr/>
          <p:nvPr/>
        </p:nvSpPr>
        <p:spPr>
          <a:xfrm>
            <a:off x="623880" y="411120"/>
            <a:ext cx="2219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文本框 19"/>
          <p:cNvSpPr/>
          <p:nvPr/>
        </p:nvSpPr>
        <p:spPr>
          <a:xfrm>
            <a:off x="3362400" y="349416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Impact"/>
              </a:rPr>
              <a:t>取得成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"/>
          <p:cNvSpPr/>
          <p:nvPr/>
        </p:nvSpPr>
        <p:spPr>
          <a:xfrm>
            <a:off x="708120" y="1114560"/>
            <a:ext cx="78184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Impact"/>
                <a:ea typeface="Impact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Calibri"/>
              </a:rPr>
              <a:t>本文开门见山提出论点“真理诞生于一百个问号之后”，接下来主要用科学发展史上的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_____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Calibri"/>
              </a:rPr>
              <a:t>有代表性的事例，证明了只要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_________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Calibri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_________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Calibri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Calibri"/>
              </a:rPr>
              <a:t>，锲而不舍地追根求源，就有可能在现实生活中发现真理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4892760" y="2452680"/>
            <a:ext cx="1660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  <a:ea typeface="Calibri"/>
              </a:rPr>
              <a:t>善于观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4"/>
          <p:cNvSpPr/>
          <p:nvPr/>
        </p:nvSpPr>
        <p:spPr>
          <a:xfrm>
            <a:off x="6891480" y="2452680"/>
            <a:ext cx="19285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  <a:ea typeface="Calibri"/>
              </a:rPr>
              <a:t>不断发问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7012080" y="1825560"/>
            <a:ext cx="9176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  <a:ea typeface="Calibri"/>
              </a:rPr>
              <a:t>三个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838080" y="3067200"/>
            <a:ext cx="24116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Calibri"/>
                <a:ea typeface="Calibri"/>
              </a:rPr>
              <a:t>不断解决疑问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696960" y="465120"/>
            <a:ext cx="20368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503280" y="555480"/>
            <a:ext cx="8245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能想出其他例子来说明本文的观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3419640" y="1879560"/>
            <a:ext cx="48243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Calibri"/>
              </a:rPr>
              <a:t>示例：牛顿看到苹果落地，由此展开思考，创立了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Calibri"/>
              </a:rPr>
              <a:t>万有引力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Calibri"/>
              </a:rPr>
              <a:t>定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826920" y="1379520"/>
            <a:ext cx="22323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55640" y="987480"/>
            <a:ext cx="763272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司空见惯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看得多了，不以为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追根求源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追溯事物发生的根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见微知著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微：隐约；著：明显。见到事情的苗头，就能知道它的实质和发展趋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Calibri"/>
              </a:rPr>
              <a:t>锲而不舍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Calibri"/>
              </a:rPr>
              <a:t>锲：镂刻；舍：停止。比喻有恒心，有毅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64515"/>
          <p:cNvSpPr txBox="1"/>
          <p:nvPr/>
        </p:nvSpPr>
        <p:spPr>
          <a:xfrm>
            <a:off x="3327480" y="428760"/>
            <a:ext cx="13716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"/>
              </a:rPr>
              <a:t>词语理解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"/>
              <a:ea typeface="楷体"/>
            </a:endParaRPr>
          </a:p>
        </p:txBody>
      </p:sp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1"/>
                            </p:stCondLst>
                            <p:childTnLst>
                              <p:par>
                                <p:cTn id="4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"/>
                            </p:stCondLst>
                            <p:childTnLst>
                              <p:par>
                                <p:cTn id="4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"/>
                            </p:stCondLst>
                            <p:childTnLst>
                              <p:par>
                                <p:cTn id="5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503280" y="619200"/>
            <a:ext cx="79851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723960" indent="-723960">
              <a:lnSpc>
                <a:spcPct val="15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以下四个选项中，与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见微知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”词语意思最接近的是（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5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古为今用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标新立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lnSpc>
                <a:spcPct val="150000"/>
              </a:lnSpc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叶知秋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无独有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854160" y="1419120"/>
            <a:ext cx="5040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6"/>
          <p:cNvSpPr/>
          <p:nvPr/>
        </p:nvSpPr>
        <p:spPr>
          <a:xfrm>
            <a:off x="250920" y="987480"/>
            <a:ext cx="885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作者在文中提出的观点（中心论点）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826920" y="1739880"/>
            <a:ext cx="67694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Calibri"/>
              </a:rPr>
              <a:t>真理诞生于一百个问号之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4"/>
          <p:cNvSpPr/>
          <p:nvPr/>
        </p:nvSpPr>
        <p:spPr>
          <a:xfrm>
            <a:off x="108000" y="314280"/>
            <a:ext cx="21463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宋体"/>
                <a:ea typeface="宋体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250920" y="2717640"/>
            <a:ext cx="8858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哪些原文可以帮助你概括提炼中心论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文本框 3" descr=""/>
          <p:cNvPicPr/>
          <p:nvPr/>
        </p:nvPicPr>
        <p:blipFill>
          <a:blip r:embed="rId1"/>
          <a:stretch/>
        </p:blipFill>
        <p:spPr>
          <a:xfrm>
            <a:off x="603360" y="2583000"/>
            <a:ext cx="7826400" cy="1569960"/>
          </a:xfrm>
          <a:prstGeom prst="rect">
            <a:avLst/>
          </a:prstGeom>
          <a:ln w="0">
            <a:noFill/>
          </a:ln>
        </p:spPr>
      </p:pic>
      <p:pic>
        <p:nvPicPr>
          <p:cNvPr id="75" name="文本框 3" descr=""/>
          <p:cNvPicPr/>
          <p:nvPr/>
        </p:nvPicPr>
        <p:blipFill>
          <a:blip r:embed="rId2"/>
          <a:stretch/>
        </p:blipFill>
        <p:spPr>
          <a:xfrm>
            <a:off x="603360" y="506520"/>
            <a:ext cx="78264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6"/>
          <p:cNvSpPr/>
          <p:nvPr/>
        </p:nvSpPr>
        <p:spPr>
          <a:xfrm>
            <a:off x="250920" y="700200"/>
            <a:ext cx="857556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Impact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作者是如何论证这一观点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为课文划分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提出观点→论证观点→总结观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分别概括三个事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Impact"/>
                <a:ea typeface="Impact"/>
              </a:rPr>
              <a:t>完成思考探究二的第一小题（探究内部结构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现象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疑问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探究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  <a:ea typeface="Impact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Impact"/>
                <a:ea typeface="Impact"/>
              </a:rPr>
              <a:t>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50760"/>
          <a:ext cx="9144000" cy="4579920"/>
        </p:xfrm>
        <a:graphic>
          <a:graphicData uri="http://schemas.openxmlformats.org/drawingml/2006/table">
            <a:tbl>
              <a:tblPr/>
              <a:tblGrid>
                <a:gridCol w="1042920"/>
                <a:gridCol w="1008000"/>
                <a:gridCol w="1873440"/>
                <a:gridCol w="1295280"/>
                <a:gridCol w="2016360"/>
                <a:gridCol w="1908000"/>
              </a:tblGrid>
              <a:tr h="576360">
                <a:tc grid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提出的观点：真理诞生于一百个问号之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2b3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9920">
                <a:tc row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论 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观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问号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探究的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真理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  <a:tr h="8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</a:tr>
              <a:tr h="80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</a:tr>
              <a:tr h="79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事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2f5"/>
                    </a:solidFill>
                  </a:tcPr>
                </a:tc>
              </a:tr>
              <a:tr h="801720">
                <a:tc grid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得出的结论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微软用户</cp:lastModifiedBy>
  <dcterms:modified xsi:type="dcterms:W3CDTF">2022-02-27T04:41:00Z</dcterms:modified>
  <cp:revision>42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64</vt:lpwstr>
  </property>
</Properties>
</file>